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F77E-3452-4B59-A6F7-D057D719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9CFE-C34F-462F-A0B4-95530B01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E99-4B2B-4786-9299-84C878E9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FF9F-E121-4162-A325-1B9CA0A9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9AC1-1244-4B0B-B072-7E3EFEBE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1F53-0E9A-4010-A50C-C12F92C2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30A2-7B80-4528-A822-514A0319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ECCF-20A8-4F60-BB14-A861746E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0C64-FCBD-46A6-B02C-667CB723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48B9-33B0-43B4-A56A-84A20576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772E-547B-4F69-9870-95611F36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4A20-3DFB-4E0E-AEB6-7607F961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5EE3-681B-4F1E-803D-04976A02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BB9D-3202-4095-9294-155534FA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1F7D-0294-436E-9E64-24B060FF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4BB7-04D9-4B46-BA8C-2D5F05D7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781F-A62D-4988-AC33-EA1D3343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F8DB7-5CBD-436E-A7CB-A3EEB6BD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13D73-9C16-44B6-B78F-421452BD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7F7E8-760D-4F4D-83E9-47D1CD3C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3B1D4-550B-4E66-B22C-95B92238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20D33-F3E1-4B91-8F0C-C4774C36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39F5-8083-478C-92EC-8385185F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6A25E-F6EF-4B8A-A44B-567BED37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167CC-9E27-4DF4-BDFD-833D5609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4995A-F16C-459C-A4DA-6119D97A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E7F10-A30D-496F-8F78-DC66E7DD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DD862-A817-4A28-BC07-86CAE1E2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E08C8-192B-4B5E-B611-F3577946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A4B43-4456-4B79-A69E-266D0FF3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442CE-E293-4EA3-98E7-69F23354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F7EF3-3871-4065-A5A7-9EC8D90B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0D8B8-A937-4531-9D2A-A75A47C4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7FB-EE6D-4ACF-9CB4-50D78170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8D3CB-DAC6-4B5C-8669-EB8729EE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EE0AE-EF2A-4043-9389-45C66DB4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C8893-992C-491E-8460-BA4C83D2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EDAE6-AE0D-4F67-A32D-7CC72DC6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1FDC3-6FB7-4D82-A630-CE645AF9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F3DE1-33E4-4929-838F-55087287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74B93-29C7-4B20-B78F-A288DC03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D1979-FF22-4530-9B74-02DBF5DB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7EE60-0367-48C3-8845-6CB57CC1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EA7DA-C759-46F9-830F-679B8DF0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5EEC-A2C3-4EC2-ACA4-D30C0098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09597-D3A1-45CC-91B1-6B749C0C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04BDC-E262-47A9-8347-DA4E6EDC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F964D-762A-455D-B9DD-8C63DAC9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93119-EFF0-470A-9740-7740BAD2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6F84F-5DF8-47AD-BE51-F14A4ECD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74B7C-EFA2-4D6F-838A-36B9C535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A3D56-0DEC-4F16-8CDE-93E394E4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E8548-FEA0-4500-AEF3-F9CE681B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4CF35-202E-44A7-B880-99BF7922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09E2E-82D2-424E-AD8A-88E04FAD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30F1-57FD-4E86-97C9-7892E570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3EE6C-DDB8-4996-BFD2-61FA8AC7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A22DD-33F4-475A-BF71-287686EE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AE080-3E50-4775-8BC2-217F9891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3FD94-CBB4-4003-A86B-A99E7E08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2BF25-8EF8-44F9-9D17-07DC81E8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34B0E-C504-4F40-8269-D35DABAD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C32AF-21F1-43E3-AF20-FBD31AFA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85E76-4497-481E-BCEA-F3D3FB7C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05B36-9369-4198-9FDF-579520DB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4767D-222D-43B4-817A-3C52C97A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55CD-2A91-4BD3-B313-8D1F0B8E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B5703-0AB9-44A7-9560-FB6B8475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5ACBA-4665-45CB-88D8-F1FECD77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57C18-D7E8-492B-9F56-A378CE63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2BAD4-0EE3-45D2-B51C-552D9F28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1C369-9659-40BF-A4CA-A6C385E2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2BE00-B6FC-4E02-BC18-A214B3C2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5792A-6EB1-4C44-8B29-0B4D8993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2BB57-53FA-4503-BE65-53929980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BEE2D-607F-4E35-8E2A-EB33595D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04310-B7FC-42E2-A1B7-BC797959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E158-7957-4DD3-B930-0B52E3C3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A9B48-AA6F-470D-AF38-376A791A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CEAD5-5547-495A-9B5E-23CCD855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DB14C-34FB-44C5-8255-297952AE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225A2-4C1A-459F-8BBA-99CE857F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2697E-2DBD-441F-8B19-178B2DB5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BDD07-DE80-4706-8686-829327E9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95576-3F0C-407B-925C-5E26F3AA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059AA-B67E-46FC-BF3D-19DDB2EC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C1DC6-7E37-418A-84B6-32E3D6C3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FAFAF-4B96-4372-843D-CB1370FA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CF2F-0E9D-4F8A-BBB5-CF564BB3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873AB-5238-4EA3-9DF5-EDC6EA70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4F9B8-F6FF-4785-92FD-2CE916E7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F97A3-2713-409A-B342-DB7748E3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269B0-5A92-455B-964E-85FC1EF4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C87F3-2EF4-4015-A1FF-4769C64E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F1E92-8B9E-4246-B758-DB92FD71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44D7B-9C84-4A06-A992-585FD349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8DF3-F9E4-48DD-854D-8ADBE18D1D6A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4093-0D22-4058-BACB-A1B9DB41D105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309E-4247-4000-8850-449FCD1ED677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9C1B-0C8E-459F-AAF5-098BBB03C15D}" type="slidenum"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85D8-65EF-46AC-91B2-7A7E889530A2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011B-1F15-4F55-AA51-2F2D55174040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D56C-2292-4CD2-981F-A388CDC8D53E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F315-A915-4255-911C-604BB4A525FD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61AD-E85A-48C6-A512-5B60F5B562D4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735A-D85F-4AC5-B9C3-E8CEE56041B8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C2ED-2CC5-4CA1-B6DF-3E98D1B0F071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49E6-1040-4EA2-877C-BA187044520A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74AE-B7F3-4088-A155-162E4E8ACE60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2E22-D81A-4A0A-8AA9-A99767AC1F0D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8CA2-C4BE-4F0B-884B-4A11B5C74132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C76E-F1B9-46DF-BF31-68021B343F57}" type="slidenum"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4"/>
          <p:cNvSpPr/>
          <p:nvPr/>
        </p:nvSpPr>
        <p:spPr>
          <a:xfrm>
            <a:off x="1143000" y="2209680"/>
            <a:ext cx="1143000" cy="53352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7620120" y="3048120"/>
            <a:ext cx="121896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6019920" y="3048120"/>
            <a:ext cx="114300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6781680" y="2209680"/>
            <a:ext cx="1219320" cy="53352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5791320" y="4876920"/>
            <a:ext cx="152388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1828800" y="4876920"/>
            <a:ext cx="160020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3809880" y="3809880"/>
            <a:ext cx="1524240" cy="60984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3"/>
          <p:cNvSpPr/>
          <p:nvPr/>
        </p:nvSpPr>
        <p:spPr>
          <a:xfrm>
            <a:off x="3809880" y="266688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4"/>
          <p:cNvSpPr/>
          <p:nvPr/>
        </p:nvSpPr>
        <p:spPr>
          <a:xfrm>
            <a:off x="3809880" y="160020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5"/>
          <p:cNvSpPr/>
          <p:nvPr/>
        </p:nvSpPr>
        <p:spPr>
          <a:xfrm>
            <a:off x="1981080" y="3048120"/>
            <a:ext cx="121932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6858000" y="3733920"/>
            <a:ext cx="114300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7"/>
          <p:cNvSpPr/>
          <p:nvPr/>
        </p:nvSpPr>
        <p:spPr>
          <a:xfrm>
            <a:off x="304920" y="3048120"/>
            <a:ext cx="121896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18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62EC-69E0-4A8D-8275-BB0CF95E48F1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7:11:57Z</dcterms:created>
  <dc:creator>ladmin</dc:creator>
  <dc:description/>
  <dc:language>en-US</dc:language>
  <cp:lastModifiedBy>Terry, Sean J. (ASD-E)</cp:lastModifiedBy>
  <cp:lastPrinted>2018-01-16T02:22:21Z</cp:lastPrinted>
  <dcterms:modified xsi:type="dcterms:W3CDTF">2018-01-16T02:22:42Z</dcterms:modified>
  <cp:revision>45</cp:revision>
  <dc:subject/>
  <dc:title>Types of Government</dc:title>
</cp:coreProperties>
</file>